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137-999E-4098-BA31-D65AA477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FEA-DDFB-4916-82D1-56E2CD77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B6C-B0C0-4DEC-98F5-FEEF41FF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F3F-6AC0-4371-BF6B-C8CD230C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A598-8944-48D8-8DF6-C7371AE5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D060-76C2-43F9-ACE9-285641F0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37A4-F5CD-4ACD-B8E5-092E47BC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6638-F6A1-406D-BD4F-1AA86C9C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D10F-BA73-4F75-893D-5B38B3B0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AEAA-4073-498F-AD8E-F702646A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7BCE-5A08-419E-8291-9CD24DF4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CD4-F5D9-4C32-9B2F-B50153D5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82E3-1BF1-44CA-A701-FA07993E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5DAF-4C6B-4B77-88A1-A0351156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5F69-136D-416D-ADC3-97C1E217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5BF2-EF50-47E0-AB8D-79E7CDBE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0F5B-E566-46C0-BF92-5E4F3F8D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BB5-326F-49A4-B8A8-84C79B81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A65-BC26-4BD8-BF5C-23164EA6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F61-C633-448E-893E-5560F3CA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A70-E617-41F4-9EDE-0F17CF70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BE8-5D27-45C3-B1CB-AE49CA81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650-BEBA-47D6-8B06-79C89C84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068-4A30-402B-8D26-C298C066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57BB-42AB-4987-BAF0-3677CCB062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937A-A4FC-4E16-AD22-652481F02AC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第十三章  货币一体化理论与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Theories of Currency Are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 European Monetary Integ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最适货币区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蒙代尔与最适货币区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两种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单一货币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多种货币并存并通过固定汇率机制连接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两种货币区的调节机制比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单一货币区内外均衡调节机制较优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区内要素自由流动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对外实行浮动汇率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政治变革、主权让渡与政治同盟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传统分析法（最适货币区条件论）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最适货币区条件主要有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生产要素的流动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开放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品多样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相近的通货膨胀率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策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成本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收益分析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国加入货币区，有成本，也有收益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收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消除投机资本区内流动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节约外汇储备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推动经济政策一体化和经济一体化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政治收益：提高国际协议地位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丧失货币政策自主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财政政策自主性受到限制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增大失业增加的可能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打破原有的国内均衡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共同货币政策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共同货币单位与货币篮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共同货币政策条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单一货币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分析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欧洲货币体系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主要内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单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联合浮动的汇率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合作基金和信贷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成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汇率最稳定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加强成员国在国际金融体系中地位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共同发展与政策协调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为单一货币奠定基础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欧洲货币联盟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欧洲货币联盟的产生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马斯特里赫特条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与单一货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欧洲单一货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欧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1:12:03Z</dcterms:created>
  <dc:creator>MS User</dc:creator>
  <dc:description/>
  <dc:language>en-US</dc:language>
  <cp:lastModifiedBy>Dell</cp:lastModifiedBy>
  <dcterms:modified xsi:type="dcterms:W3CDTF">2021-08-23T22:50:40Z</dcterms:modified>
  <cp:revision>13</cp:revision>
  <dc:subject/>
  <dc:title>第八章  货币一体化理论与欧洲货币一体化</dc:title>
</cp:coreProperties>
</file>